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0C5-E94F-4B59-A93E-B8FF1349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BA0-14BE-4745-9805-AE76A378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A4D6-B528-4895-B9F1-C72C8AEB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203EF-076B-434D-8B13-466F33C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90384-F84E-41F3-A492-6B3B8FCA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F21AA-8951-4A4A-983F-CDAD590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BC3FF-0766-4ED0-9189-B1A85B3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F6405-685C-4CED-9B0A-2DD2971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9D126-F389-49DF-92F7-969DA85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FB2F-395F-456B-A9E3-03A281E7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7A77D-4654-4800-BCCE-1FBD638C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9D54-4AC7-4707-877C-8066862A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024-C1F0-49B3-A013-D4DF6665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8B649-05A2-44A5-8817-4D1EF94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E82C9-AFE3-40B0-AC6C-C9C3194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39BB0-A223-40A7-B654-08256A2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B8E07-4161-4F82-82CD-867AA5BB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C6317-4FA4-4A8F-A6EF-D9C1E51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5E28-CFB7-4358-8327-CA06602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54AE3-1147-4E91-BB29-33FE1B9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49E74-FDB5-4910-8CBE-5DC47D2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47AC-CAAC-4E43-9D79-D9C2B6AF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C2266-929B-4A52-8693-11F02BB8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C51-9EED-45FB-90F3-D1E04B84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ED6CF-C3CA-4452-A81D-593C43AB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C6847-8F65-4BFC-A825-1A371DF1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08FC-3F05-4599-9162-73DDB408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352B-73DF-4075-9CEA-A8EE592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9A25D-C43C-4581-8472-FC89A21D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91158-B049-402B-B027-9878937F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2A339-4647-46EB-9B91-E6566EEC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98BE2-7C9D-4E18-B1DD-A5D2D99D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EBAF0-B0AC-4FED-A315-FCB31308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83398-F68F-4108-A56B-CC6DE11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C3D-A26D-4276-9B2D-991739DA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4886-83AA-4BDF-9171-9A87041F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1D20-7730-4F43-8C3A-1467B62A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527B1-8908-4BF4-8E13-6AE50504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9D44A-4F01-4927-8426-8E48ECCD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5D07-47E2-4AA0-A6D3-1790316A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B2CCF-F61D-41C4-8008-30B90B3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B9403-0712-4DF8-A24C-A547067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0139E-8FB8-4D92-9E81-7C14AD59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49A74-AC6A-4407-8C46-5955064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E4D57-8429-406A-98D5-1F51AC4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0B12-92D4-477F-912E-BBB4EEE5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E9F4-EA15-4D18-A4DA-3650DFA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03DE9-A8E1-4DF1-A2C4-C058F5C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C48A1-4B7B-4D18-B417-7198CFE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248B0-80EB-4EC7-880B-7895ECA0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12593-F364-4156-BD03-6E43ED03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75E43-7BEF-45C6-A5FF-34C726C8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DB086-1B1E-40AD-A709-3C6F7D0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E7C89-DEC1-4D94-8D25-1729602C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C7632-7B91-46CD-8703-BE9A5FE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056AC-534C-4582-80B6-6277DE30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DB7B-C9EE-414F-8D35-644D5B94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DF034-FEAC-4D5C-A68B-53D8466A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944AC-6C7B-41AA-9407-BBDD81A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0E4D5-742A-4BB6-910D-189EACD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53AD3-B32B-428B-8B5B-142C7427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7AFEB-D8B4-42A1-8112-7CA4014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7D3C4-B69B-4425-9889-B20CE958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9161E-3096-406B-A01C-52B7AD68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985C2-5B0E-46C1-A5A8-47086E6B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6B97A-96FC-4E32-B33F-B9F9500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788A3-8FA0-4D94-B0A9-B5A0D19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84C1-CD42-476A-BC21-6706AD88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6F068-13A2-4B40-BC52-4F3E646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17790-11CA-438D-89F0-06C527C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9FBA3-A838-4F26-B0D6-430E93B6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58A83-7879-4139-A739-0F5B8A7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33D0B-0A89-4AC5-AB92-D676DE7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58B81-104A-4086-BB4B-61FFC20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A8A8B-B43E-49EA-BA6D-77F094FD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F857E-4E37-4D93-B889-080D1715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11E5C-3FFA-4D57-9083-32519B8A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075B8-7448-4FF4-A0C2-0BE43902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68D9-8706-4BB4-8020-E52301E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58E0C-9F34-431A-8AA8-3706B1E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A0C84-57AB-47CC-A248-A264D6D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7CDB2-E146-4E55-8CCF-4122AF8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6EB55-433F-404A-BDB8-5A70A81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F3634-1759-469D-910A-9C4383E5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948EA-8E9C-48A7-89A9-6FBCA714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9678C-BA49-4D58-928C-C10FA60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65EE4-BC2D-42B8-8696-1FEB637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05E7F-F352-47E6-982D-9E15DCE5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0FB92-2241-4D16-8DA9-57F75CC6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6168-006A-459F-9377-F9A11314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66212-ABB9-499F-AAD6-DAC6F778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7E0AA-F1DD-4485-B0CE-8E119A8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462C59-DE4E-49F3-9737-B1ECDE0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3A7D9-BB73-4994-B9F4-250283A5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7B6E1-A445-4D30-BADF-3F6536D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33A28-89E9-47C6-A400-23F0819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08D35-36D9-4A66-AC83-8C44D402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72426-A234-41AE-8282-AB8E28E0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EA4D5-CB1E-4A9F-8272-E4A424D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250D0-D67C-4F69-A55F-54C80E75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8730-FDD0-4D1D-9174-1ADD7FF2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08B3E-1216-4167-9FE7-A96336F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B1D40-09E0-43D7-A0E4-9E6EA74B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1863E-C661-4E29-B792-F8B0BC51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CE75C-C5BE-4100-8330-F8D5674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DC761-D521-4E8A-887F-E4000AA2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4CEF7-E6BD-44E3-99A5-47066205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8029D-7E99-467C-A1D7-DA4C7296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928446-EB0E-4EB3-A662-9A50F214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280FE-83C2-4988-8331-1A81456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64C65-74BA-447E-9D55-F487BB8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3FF-FA60-494F-A161-C8784A6B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337-544D-4C7E-AB61-D5126AC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F3BB0-7E1C-469A-A38C-1EC404F1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FAE02-C26B-401D-B3C3-0EC91D4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C5255-1DC1-41B5-8334-DDE996E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327EF-61D8-4810-A399-56B97022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6E791-E6C9-4FF9-A631-80C49743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3D216-9376-4D73-ACCA-42DCCD8C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801EC-BED0-4B2B-A60B-FA78807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C39DF-1AE7-4B44-881E-091C8F5D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9FBE8-338D-4417-A565-1C94E38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C405E-E9AF-4E75-B4DB-8D80584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5555-862E-411C-82C0-FA69A6C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35856-4AF7-4CB6-B641-E79B1FE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28144-0647-4F41-9BD3-5613E74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3CDD7-9967-4865-B736-60CDAEF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0ED14-E20D-43F8-9499-15FD68D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249C8-0356-47E5-A114-9622EAE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04EE1-A52B-477C-B50E-7075CCA5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67090-1D23-4643-BA52-71EE8293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B27ED-74BC-40EF-8E8A-AEC11C2E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A3918-DB47-4FB2-8429-C6244203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7A562-3CD9-4696-8047-95DF8D7C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7760-5C8A-4273-8471-D314207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3CF8F-7EAE-4A11-8907-531FB462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68302-FB17-4353-A08B-12A7A6C4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DFE1B-1EFF-4797-8609-CC9469F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5E441-E9BC-4C21-957A-7067B4F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485E3-C311-4BCE-88BA-92FE16D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9C5FF-4200-48CA-A587-0F48774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54F19-EF10-4A7B-A06C-BC6A348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3E265-60CE-4FAE-B8C9-5FA05F7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0CBBA-85E7-4421-A4E6-3670D4FD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24108-49FD-457A-AA67-ECE9BA0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4874-48E5-4BED-A4B3-073C8FAD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E0B36-84A6-4AB0-A6A0-9EB3268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EDA9C-C085-46AA-B36C-0001BE5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F04EF-4DB4-43E8-999D-D90DE2A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C6D3D-D06E-4D15-9537-8BB3482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2BBD5-2C83-43E7-9800-9E64209A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351C4-9620-46DF-9F98-B6C7CA94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3739A-CB2F-4772-9C73-7A96714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F81D7-320A-4F1A-A05D-F390772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7C26C-936E-43DA-A139-7506AFEB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1AC50-6B78-4657-914F-C253145F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25F3-E68A-4321-9500-0A7DCF00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EE2C6-D70B-4AB8-A1F2-1823B38F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8257B3-3294-40AF-9FB3-59BB15A8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215987-F12A-4C45-AA09-B204556D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2C6DC-DDC2-4067-A0A6-5B384258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FB979-E4DC-466F-A36C-14746A10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53543-38E5-4B7A-B103-1DC2938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4AD97-DEEE-4418-A38C-6F32E15C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5F9CF-6A88-470B-8F14-08FA7D8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410F0-81B5-4F82-B1A7-A8D5267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7DA14-708F-4B9D-898F-4B72604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91D2-FD0F-4254-9E21-9A22B133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BC076-9196-43D6-BA09-556FA89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B7047-FF8F-47CF-B978-D8B72D1B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2B2E3-5245-4420-B573-98227958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EA43-8591-4DE4-9D1D-B0C237E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D1F2-E9FE-48BB-AED2-2CF17A4E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5683-DC8D-4AB2-BF9C-5761D8CF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0F1C-7F46-47AE-AC78-089EF5F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9F6-A888-4B9E-AB52-E2C6DF6A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7785-A56B-4B72-88E7-96E31C10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B500-6A12-43CE-9641-441E5BB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F6D0-CAC8-468D-AC35-32D3B86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0917-092F-46EF-B49E-20E3840D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61FA-6BFD-497D-9028-953EC952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1718-BAEB-4FAA-98DC-D3DF1FD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601-786A-4519-A7A0-192F4DB1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EE81-0620-4ACE-82B3-84D1C92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8F8C-ADFF-4504-B39A-8D25839E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E443-1083-4FC7-B70F-16661D13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81F-0CCD-472E-AFCD-69F2AE5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3C16-6CCB-4FAC-B9A0-97C8E3E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3905-DE34-401E-A44F-BA260245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FC02-4DCA-4E74-B4EA-2538DF1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9C76-E430-4888-A156-1475A2F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A2A56-C5A4-42CB-8311-3757CBC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64DF-3E5B-4F42-8FFE-874060D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87DCE-4731-463E-B5F7-A58223FC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3D93-7EB2-4C92-9BF5-ED658CB3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65F1-7965-454F-870D-3608AAA3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E9DB-DFB1-468C-ABF3-590380C7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B21-DA0D-4CF5-BDBD-BB8ABA7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E0A6-8E12-4952-8052-F8D4C94F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3690-456B-416F-B58B-CAD7478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32DD-8FE1-4147-9B44-1EA204E4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2217-9104-4186-82D3-5294F3F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7DD42-366B-46AA-BC49-6F18A0F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B500C-2610-4E82-A26F-5B3DF81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3FF1-593F-46A6-A1F6-F1C7926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246A-6C52-4547-B9A3-69F1028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39BE-19EC-4DF1-B1F6-E4541E32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1278-927C-4488-89AD-CEBDFEF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CB4-996B-4157-9047-236AFE2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0B9C-0036-42EB-A877-5486952B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3B528-003B-47DA-A2B7-0DC2447F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FB8F-A0D4-495E-B0F2-3927BEA7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A698-1000-48D3-B5BF-E5EF61A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A70D-D39A-490F-AF79-63170BF3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62E3-1BDD-4719-9BC7-976759D8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C096-8AC9-4604-93AC-6BA7D22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33E43-D94F-42A3-8FD1-0793CE7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AE078-52A0-4C53-BF46-6B11C81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BCD9-D53C-459D-A3A3-9A7BA88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ED6-CA2D-4471-813E-C4968875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6EFCC-B801-4323-9BD4-28E4628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99F62-6EC2-41FC-AD92-7339090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4C73-3DC8-48CB-8CAD-432D490B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3FB2-F4EE-4F55-88B7-8392481A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F8C4-465F-43AB-828A-80B7005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370B-0B02-4CE3-9452-FE7F592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6F3C8-7558-4861-9BA5-1CDB0364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BBF6-57E8-4CE3-B3BA-00ADDE4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6515E-9B38-4FE1-9338-8E5469D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C871-45A9-46CD-BB10-2F221A82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C07-49EF-4CFC-9FC5-BB87968B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A8CA-12AF-4620-A96D-28D9D0A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A2AD-6576-47C2-A4A8-A7A7828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BCF0D-4E03-4246-8FBA-DB94351C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EB358-DA30-45D0-A92D-F3B698D3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74087-6F6F-4D4E-84B3-39EA9AA2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4AC0-C29F-4CC0-845A-9CD911AA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3102-8DC7-40C8-9DE0-37E127B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C1B0-9CF1-49BC-9A9F-7F214C6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D764E-8851-49E5-B7DE-EF7B71CB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7634-FC3A-49E1-8E1C-BDC64FB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8AA-66D0-483F-9B9C-76294EB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FA04-001E-48FF-B77F-F9A56AE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8ECA7-F370-4076-9E54-2B5F257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21207-BFBB-4B21-A23A-0267A56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68F3-827E-49F4-93AA-7B0ED55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A3C83-B5A0-4657-8E52-BD723FA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E6503-69BE-4B82-8847-0E241ED0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F972-F714-45B3-B045-584DD371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8BCF4-12DB-4ABC-9A60-33C80DD2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E4D2-407E-43D9-BED0-3D485D2C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898E1-B8D6-4AB7-B054-E967F0F6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6D0-9972-45F0-9A5E-A4817EFF2E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9C2B-EE34-461B-95A6-C57B8E8F4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FCE-D721-4674-84DB-657751B62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324-51B4-4608-B4B2-679707B0BA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7C1B-6B6C-4DBC-B93B-5E9FB0C4F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BBA4-64C1-4235-A942-F8F1EC0D8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531-EBFA-4292-BC96-D4B1D9562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7937-85D3-4987-BECC-F7BA88BAB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76E-363C-4BF8-A80B-E29247159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B75B-E940-4CFB-8472-1A211E732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3D2-E493-406B-9324-6E32B2101D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BDC-974B-4D0E-9A96-091ED5616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9BA5-A341-4F8B-8478-F7CBF75CB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13BF-C2AB-4D98-941F-0D704FFA7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E24-0A86-4476-B634-4D850CD8C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3448-453D-4684-AE88-9C8F96198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5C21-8D79-4B2E-BB79-E18F660CE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A0D-C820-44B5-AC5B-8F0AD5A97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958-52E9-4813-B22D-BB81AEADA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DB1-6B49-4B39-9C3A-659194033D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638B-89A3-417C-A826-CA916AE5A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64C-85AC-4F67-8BF5-D74424CDA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8F36-0711-4F68-A970-BB6C5A49BC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436-02CD-4A3D-8CDD-1E5E41476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345-B4A9-412E-A2B0-47926A3603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7AF6-FF5D-44A6-A65A-BB5FE3B24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EAAE-D70C-481F-B90F-E8543C905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A07-7FD8-4843-A9B3-329758EBDD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38D6-9220-4368-9097-443919168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136B-6A4F-471E-B93B-C9926D1D2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5D3-DD93-45EE-928F-29E4EF412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342-2435-4C76-BEA5-0252315D9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53A-479D-43F8-93C4-369A38047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8DC-D2C1-4896-B17A-429B3E9CF0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F41D-058F-4AEB-9E78-E28AE9BB4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1685-D96A-440A-9D60-D57F16A80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D6B-51C3-4CE7-835B-D60D65056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FF9-6B5D-47A6-B6E0-C9734CC1D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3A4-541E-4584-A54F-0234139362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0948-08EB-4FCC-9A24-C88C9D479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81000" y="2205000"/>
            <a:ext cx="7182000" cy="8096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33840" y="3416400"/>
            <a:ext cx="3676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69633" descr=""/>
          <p:cNvPicPr/>
          <p:nvPr/>
        </p:nvPicPr>
        <p:blipFill>
          <a:blip r:embed="rId1"/>
          <a:stretch/>
        </p:blipFill>
        <p:spPr>
          <a:xfrm>
            <a:off x="1709640" y="1709640"/>
            <a:ext cx="5724720" cy="3438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763640" y="178740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1763640" y="35002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1835280" y="4363920"/>
            <a:ext cx="52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152280" y="771480"/>
            <a:ext cx="8839440" cy="57531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987640" y="203184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476360" y="3298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492360" y="49561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492360" y="5459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716880" y="31845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867280" y="4135320"/>
            <a:ext cx="1441440" cy="403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738760" y="4595760"/>
            <a:ext cx="144144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545160" y="5013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614520" y="1092240"/>
            <a:ext cx="7914960" cy="500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419640" y="146844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203640" y="19605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044880" y="2421000"/>
            <a:ext cx="4474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602400" y="1270080"/>
            <a:ext cx="4478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5867280" y="2247840"/>
            <a:ext cx="1225800" cy="376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5867280" y="2722680"/>
            <a:ext cx="1225800" cy="376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2282760" y="407664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3751200" y="393372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0"/>
          <a:stretch/>
        </p:blipFill>
        <p:spPr>
          <a:xfrm>
            <a:off x="2959200" y="4927680"/>
            <a:ext cx="1225440" cy="376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1"/>
          <a:stretch/>
        </p:blipFill>
        <p:spPr>
          <a:xfrm>
            <a:off x="2959200" y="5402160"/>
            <a:ext cx="1225440" cy="3762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2"/>
          <a:stretch/>
        </p:blipFill>
        <p:spPr>
          <a:xfrm>
            <a:off x="5292720" y="5257800"/>
            <a:ext cx="4478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357120" y="763560"/>
            <a:ext cx="8429760" cy="5905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255600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835280" y="299736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0214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867280" y="2997360"/>
            <a:ext cx="1874880" cy="1079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2989440" y="46404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1835280" y="5721480"/>
            <a:ext cx="1874880" cy="1079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7021440" y="46404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5867280" y="5721480"/>
            <a:ext cx="18748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7352" descr=""/>
          <p:cNvPicPr/>
          <p:nvPr/>
        </p:nvPicPr>
        <p:blipFill>
          <a:blip r:embed="rId1"/>
          <a:stretch/>
        </p:blipFill>
        <p:spPr>
          <a:xfrm>
            <a:off x="352440" y="1295280"/>
            <a:ext cx="8439120" cy="4267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2737080" cy="2160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685960" y="2492280"/>
            <a:ext cx="188604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292720" y="3544920"/>
            <a:ext cx="2944800" cy="2160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575400" y="2536920"/>
            <a:ext cx="20289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6324" descr=""/>
          <p:cNvPicPr/>
          <p:nvPr/>
        </p:nvPicPr>
        <p:blipFill>
          <a:blip r:embed="rId1"/>
          <a:stretch/>
        </p:blipFill>
        <p:spPr>
          <a:xfrm>
            <a:off x="657360" y="1919160"/>
            <a:ext cx="7829280" cy="3019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144440" y="2968560"/>
            <a:ext cx="2944800" cy="216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427120" y="1960560"/>
            <a:ext cx="202896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2944800" cy="2160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359400" y="1974960"/>
            <a:ext cx="20289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5300" descr=""/>
          <p:cNvPicPr/>
          <p:nvPr/>
        </p:nvPicPr>
        <p:blipFill>
          <a:blip r:embed="rId1"/>
          <a:stretch/>
        </p:blipFill>
        <p:spPr>
          <a:xfrm>
            <a:off x="109440" y="1309680"/>
            <a:ext cx="8925120" cy="4238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692360" y="4422600"/>
            <a:ext cx="1800000" cy="1079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6802560" y="33004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651640" y="4365720"/>
            <a:ext cx="1800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4276" descr=""/>
          <p:cNvPicPr/>
          <p:nvPr/>
        </p:nvPicPr>
        <p:blipFill>
          <a:blip r:embed="rId1"/>
          <a:stretch/>
        </p:blipFill>
        <p:spPr>
          <a:xfrm>
            <a:off x="623880" y="1333440"/>
            <a:ext cx="7896240" cy="41911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2698920" y="121140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1800360" cy="1079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6802560" y="12114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5651640" y="2276640"/>
            <a:ext cx="1800000" cy="1079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3564000" y="4292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6948360" y="4307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2231" descr=""/>
          <p:cNvPicPr/>
          <p:nvPr/>
        </p:nvPicPr>
        <p:blipFill>
          <a:blip r:embed="rId1"/>
          <a:stretch/>
        </p:blipFill>
        <p:spPr>
          <a:xfrm>
            <a:off x="171360" y="787320"/>
            <a:ext cx="88012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4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